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393-5FFF-4C1E-B619-8898DDCC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696-C0DE-4309-ACB3-5D994D1B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9178-5B03-45BB-ABBC-EDE7B90B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4DB-A452-4B43-9157-1BBBD14C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618-45EB-4E33-A45C-2D0D0CD9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A2D-DFBC-40BE-8FC8-7E5EA937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F34-2360-44FA-B79C-2FFDB347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22A-81D4-45B4-9656-CA0E2460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489-4FB4-42E7-A604-A85437CC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860-24B1-4E1F-A31D-4C7CE93D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A00-DD1D-40F7-82F1-6DB5FF1F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D78-3875-4DEF-A372-D4065174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8D8D-B7CC-4331-8A94-35BC03F17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library.utmb.edu/scopes/toy3.jpg&amp;imgrefurl=http://library.utmb.edu/scopes/toy.htm&amp;h=370&amp;w=250&amp;prev=/images%3Fq%3Dmicroscopes%26start%3D120%26svnum%3D10%26hl%3Den%26lr%3D%26ie%3DUTF-8%26sa%3DN" TargetMode="External"/><Relationship Id="rId2" Type="http://schemas.openxmlformats.org/officeDocument/2006/relationships/hyperlink" Target="http://images.google.com/imgres?imgurl=library.utmb.edu/scopes/toy3.jpg&amp;imgrefurl=http://library.utmb.edu/scopes/toy.htm&amp;h=370&amp;w=250&amp;prev=/images%3Fq%3Dmicroscopes%26start%3D120%26svnum%3D10%26hl%3Den%26lr%3D%26ie%3DUTF-8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2171520" cy="210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5410080" cy="32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133720" y="2514600"/>
            <a:ext cx="4505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99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icroscope Not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99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yepiece Le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ive Le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Magn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Power  = 4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um Power = 10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Power = 40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33720" y="990720"/>
            <a:ext cx="54100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Objective Len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cro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or more lense that makes an enlarged image of an ob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858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reoscop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4114800" cy="4190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52480" y="533520"/>
            <a:ext cx="5181840" cy="10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ypes of Microscop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Micro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a magnifying glass and has only one l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143160" y="2666880"/>
            <a:ext cx="28576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ound Micro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s light pass through an object and then through two or more len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05320" y="2971800"/>
            <a:ext cx="25146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reoscopic Micro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a three dimensional view of an object. (Examples: insects and leave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ctron Micro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ses a magnetic field to bend beams of electrons; instead of using lenses to bend beams of ligh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48640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L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larges an image and bends the light toward your ey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2743200" cy="296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78560" y="2743200"/>
            <a:ext cx="356544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200400" y="4495680"/>
            <a:ext cx="2664000" cy="20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yepiece L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s a power of 10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96216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20:12:30Z</dcterms:created>
  <dc:creator>Elizabeth Wilson</dc:creator>
  <dc:description/>
  <dc:language>en-US</dc:language>
  <cp:lastModifiedBy>berea college</cp:lastModifiedBy>
  <dcterms:modified xsi:type="dcterms:W3CDTF">2006-09-10T23:58:30Z</dcterms:modified>
  <cp:revision>4</cp:revision>
  <dc:subject/>
  <dc:title>PowerPoint Presentation</dc:title>
</cp:coreProperties>
</file>